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3CB-7082-4D23-9DBB-C83A3D71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FB3-80C7-4A1A-8F75-9B42BEEA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A9E-DDB4-4D3E-87A2-B110D9B6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918-7A42-4E0A-B7C6-0B14D765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EEC-CDB4-46D1-8875-4C0B3876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2FC-0C8D-4C0F-A29B-4C81ADDC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594-E02B-435D-A35C-FDB71FA1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7A2-527E-4E8F-BA8E-04C3E6D4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2BF-177F-4581-8DD9-F3ACE113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26C-6050-43AA-A20C-41E396DA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EA9-EF77-4667-81C8-BF84E36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D5F-DFC5-4B6A-BD72-49CEDBD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714A-F909-4362-B9AD-BD43CEDE5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5/10/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0BC-045D-430F-837E-B236CFC256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ils – Flight 04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d Flight Schedule listed for 04/14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significant amount of MPs closed 04/14/06 (Good Friday), Kick-Off call moved to Monday 04/17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406 began Monday, 04/17/06 at 8:00 AM CPT, even though Kick-Off call occurred at 2:30 PM CPT tha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406 scheduled to conclude 05/30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405-F014-4317-BD0E-4867D95EAC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tarted 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not quite complete due to Penny Test outstanding with 4 Trading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05/02/06 at 2:3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y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5.4% comp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8.68% by end of d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te through Day 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FF5-4E80-4506-8D95-C76D143F0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12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7 outstanding transactions for Wee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1 Inbound to ERC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4 Outbound from ERC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2 Point-to-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5 overdue transactions for Week 3 (as of 05/02/0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 Inbound to ERC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6 Outbound from ERC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 Point-to-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CA0-8803-460C-BC20-F0A822BC2F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Flight - 07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s intending to use API will test for MarkeT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I Interface testing volunteers will also be accep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Meeting: 06/13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light Deadline: 06/21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Kick-Off Conference Call: 06/27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661-7A54-4D74-AE2E-54742E3A91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Flight – 0706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: 07/07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ins: 07/10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rak Testing API/GUI: 08/07/06 – 08/18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cheduled to conclude: 08/22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14C-F451-43DB-8EC1-4AEA3F6076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sherri slagowski</cp:lastModifiedBy>
  <cp:lastPrinted>2002-09-24T18:27:58Z</cp:lastPrinted>
  <dcterms:modified xsi:type="dcterms:W3CDTF">2006-05-02T19:56:54Z</dcterms:modified>
  <cp:revision>384</cp:revision>
  <dc:subject/>
  <dc:title>PowerPoint Presentation</dc:title>
</cp:coreProperties>
</file>